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4889E-823A-45BD-9E5A-FEE9EC035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2362320" y="30481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2362320" y="39639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2ABE0-CCB4-4EF1-A12C-4A777F75E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236232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64228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633E4-ADFF-4D77-B70A-EBFFB535E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236232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452628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69060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236232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452628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69060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57303-2743-42CA-BC2C-7AD2779C7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50206-9223-4BFD-948A-72EFDA98F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602AF-5C46-4C33-A6C9-234000B61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2362320" y="30481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11FE2-915B-4E53-BAA7-A59BA7649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236232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64228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A535B-7FA0-4044-AF14-59FEA1737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A4740-BB4A-48B5-84FD-21C7DB572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240" y="1142640"/>
            <a:ext cx="7467480" cy="68148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07E11-80A9-4D26-ABB5-0FF4224B7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64228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236232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27C20-49B1-400B-AEE1-8D5CC7935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D971-A263-4B93-8B6F-ED77C2975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236232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64228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6C26E-0439-4BD6-B09F-F50A6D027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2362320" y="39639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B711C-80FC-47DC-942E-4C0297C71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2362320" y="30481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2362320" y="39639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09041-25F5-4D24-8003-7ED4E220F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236232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64228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A1D25-8DC5-4268-AEBA-E79805AC9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236232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452628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69060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236232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452628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69060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8EAA4-850B-4EF6-9391-2C8A1801D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2362320" y="30481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DFE1F-512B-4EBF-AD37-AC8B8906E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236232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64228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5E744-DABA-478A-B9BA-6813D37F0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E6A09-E2E4-47DA-ACE5-A8056FFF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1142640"/>
            <a:ext cx="7467480" cy="68148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BA13-B5B6-420D-B561-3339BFDB7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64228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236232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DEDC-E869-4F09-84BD-B909E0B0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236232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64228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EC70-6CE8-40F9-A766-2ADD180C1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2362320" y="39639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C1001-0450-4845-AEF5-8F7220858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50E7-EE4C-4A68-B824-9DC60B7E5769}"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58BD-9AFC-4F49-949C-451F564ED968}"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Second Outline Level</a:t>
            </a:r>
            <a:endParaRPr b="0" lang="en-US" sz="2800" spc="-1" strike="noStrike">
              <a:solidFill>
                <a:srgbClr val="4f261e"/>
              </a:solidFill>
              <a:latin typeface="Garamond"/>
            </a:endParaRPr>
          </a:p>
          <a:p>
            <a:pPr lvl="2" marL="914400" algn="ctr">
              <a:spcBef>
                <a:spcPts val="601"/>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Third Outline Level</a:t>
            </a:r>
            <a:endParaRPr b="0" lang="en-US" sz="2400" spc="-1" strike="noStrike">
              <a:solidFill>
                <a:srgbClr val="4f261e"/>
              </a:solidFill>
              <a:latin typeface="Garamond"/>
            </a:endParaRPr>
          </a:p>
          <a:p>
            <a:pPr lvl="3" marL="1371600" algn="ctr">
              <a:spcBef>
                <a:spcPts val="499"/>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ourth Outline Level</a:t>
            </a:r>
            <a:endParaRPr b="0" lang="en-US" sz="2000" spc="-1" strike="noStrike">
              <a:solidFill>
                <a:srgbClr val="4f261e"/>
              </a:solidFill>
              <a:latin typeface="Garamond"/>
            </a:endParaRPr>
          </a:p>
          <a:p>
            <a:pPr lvl="4" marL="1828800" algn="ctr">
              <a:spcBef>
                <a:spcPts val="499"/>
              </a:spcBef>
              <a:buClr>
                <a:srgbClr val="4f261e"/>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ifth Outline Level</a:t>
            </a:r>
            <a:endParaRPr b="0" lang="en-US" sz="2000" spc="-1" strike="noStrike">
              <a:solidFill>
                <a:srgbClr val="4f261e"/>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ixth Outline Level</a:t>
            </a:r>
            <a:endParaRPr b="0" lang="en-US" sz="2000" spc="-1" strike="noStrike">
              <a:solidFill>
                <a:srgbClr val="4f261e"/>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eventh Outline Level</a:t>
            </a:r>
            <a:endParaRPr b="0" lang="en-US" sz="2000" spc="-1" strike="noStrike">
              <a:solidFill>
                <a:srgbClr val="4f261e"/>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Gold Rush</a:t>
            </a:r>
            <a:endParaRPr b="0" lang="en-US" sz="4400" spc="-1" strike="noStrike">
              <a:solidFill>
                <a:srgbClr val="4f261e"/>
              </a:solidFill>
              <a:latin typeface="Garamond"/>
            </a:endParaRPr>
          </a:p>
        </p:txBody>
      </p:sp>
      <p:sp>
        <p:nvSpPr>
          <p:cNvPr id="85" name="PlaceHolder 2"/>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un Facts</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But water was not the only expensive item on the Oregon-California Trail. For example, at the start of the journey, flour could be purchased for $4.00 a barrel, but further along the price rose to a sky-high $1.00 per pint. Other staples could also be quite expensiv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5"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ugar $1.50 per pint</a:t>
            </a:r>
            <a:endParaRPr b="0" lang="en-US" sz="3200" spc="-1" strike="noStrike">
              <a:solidFill>
                <a:srgbClr val="4f261e"/>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offee $1.00 per pint</a:t>
            </a:r>
            <a:endParaRPr b="0" lang="en-US" sz="3200" spc="-1" strike="noStrike">
              <a:solidFill>
                <a:srgbClr val="4f261e"/>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Liquor $4.00 per pint</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7"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Surprisingly, there were other staples that were amazingly cheap. For example, at Ft. Laramie, bacon could be had for a penny per pound. Those who had excess bacon often considered it worthless and dumped it by the side of the road. One emigrant reported seeing ten tons on one pil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Why the wide disparity in prices? The basic laws of supply and demand were at work. Most wagon trains took too much bacon and so it had little trading value. Water, on the other hand was in short supply and thus commanded a high pric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61e"/>
                </a:solidFill>
                <a:latin typeface="Garamond"/>
              </a:rPr>
              <a:t>Traffic on the Trail</a:t>
            </a:r>
            <a:r>
              <a:rPr b="0" lang="en-US" sz="3200" spc="-1" strike="noStrike">
                <a:solidFill>
                  <a:srgbClr val="4f261e"/>
                </a:solidFill>
                <a:latin typeface="Garamond"/>
              </a:rPr>
              <a:t> </a:t>
            </a:r>
            <a:endParaRPr b="0" lang="en-US" sz="3200" spc="-1" strike="noStrike">
              <a:solidFill>
                <a:srgbClr val="4f261e"/>
              </a:solidFill>
              <a:latin typeface="Garamond"/>
            </a:endParaRPr>
          </a:p>
        </p:txBody>
      </p:sp>
      <p:pic>
        <p:nvPicPr>
          <p:cNvPr id="111" name="" descr=""/>
          <p:cNvPicPr/>
          <p:nvPr/>
        </p:nvPicPr>
        <p:blipFill>
          <a:blip r:embed="rId1"/>
          <a:stretch/>
        </p:blipFill>
        <p:spPr>
          <a:xfrm>
            <a:off x="1676520" y="152280"/>
            <a:ext cx="3338280" cy="212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1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Bumper-to-bumper highway congestion isn't just a modern phenomena. Rush hour traffic on the Oregon-California trail was just as bad--probably wors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15"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image of a lone wagon on the endless prairie is largely myth; it's more accurate to imagine a moving city. Many reported seeing wagons all the way to the horizon day after da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17"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nd just like today's highways, there was quite a bit of jockeying for position. The goal was to get in front of the pack because anyone who was behind had to eat the billowing dust kicked up by the wagons ahead. Competition was fierce; those in the back often had to put on goggles just to se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1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crowded conditions got even worse in the evening when the wagons came together to camp. Many 49ers discovered that previous wagon trains had overgrazed the prairie, and so there was no remaining grass for the oxen and mules to graze. So it was not uncommon for 49ers to venture miles off the trail in the evening in search of grass for their animals.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2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 more serious consequence of all this crowding was poor sanitation. Each new wagon train dug their latrines near the previous group's--and there was often leakage into the water supply. The result was illness and deat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261e"/>
                </a:solidFill>
                <a:latin typeface="Garamond"/>
              </a:rPr>
              <a:t>Weird Ways West</a:t>
            </a:r>
            <a:endParaRPr b="0" lang="en-US" sz="4800" spc="-1" strike="noStrike">
              <a:solidFill>
                <a:srgbClr val="4f261e"/>
              </a:solidFill>
              <a:latin typeface="Garamond"/>
            </a:endParaRPr>
          </a:p>
        </p:txBody>
      </p:sp>
      <p:pic>
        <p:nvPicPr>
          <p:cNvPr id="87" name="" descr=""/>
          <p:cNvPicPr/>
          <p:nvPr/>
        </p:nvPicPr>
        <p:blipFill>
          <a:blip r:embed="rId1"/>
          <a:stretch/>
        </p:blipFill>
        <p:spPr>
          <a:xfrm>
            <a:off x="1676520" y="304920"/>
            <a:ext cx="2666880" cy="239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61e"/>
                </a:solidFill>
                <a:latin typeface="Garamond"/>
              </a:rPr>
              <a:t>To California via Antarctica</a:t>
            </a:r>
            <a:endParaRPr b="0" lang="en-US" sz="3200" spc="-1" strike="noStrike">
              <a:solidFill>
                <a:srgbClr val="4f261e"/>
              </a:solidFill>
              <a:latin typeface="Garamond"/>
            </a:endParaRPr>
          </a:p>
        </p:txBody>
      </p:sp>
      <p:pic>
        <p:nvPicPr>
          <p:cNvPr id="123" name="" descr=""/>
          <p:cNvPicPr/>
          <p:nvPr/>
        </p:nvPicPr>
        <p:blipFill>
          <a:blip r:embed="rId1"/>
          <a:stretch/>
        </p:blipFill>
        <p:spPr>
          <a:xfrm>
            <a:off x="1676520" y="228600"/>
            <a:ext cx="4228920" cy="2181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25"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Not every 49er used the Oregon -California Trail. There were other routes to gold country--one came perilously close to Antarctica!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27"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ose who did not want to endure a four month walk across the west, traveled to California by ship. Trouble was, there was no direct water route to the west coast. So a ship leaving New York had to travel all the way to the tip of South America--skirting the edge of the the Antarctic continent--before heading north to California. It was a difficult trip that sometimes took a complete year.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2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So it was inevitable that several shortcuts were developed for the gold-crazed 49ers who were in a big hurry to get west. The most popular cutoff involved taking a ship to the Isthmus of Panama, then trekking overland to the Pacific side (remember, there was no Panama Canal then) where another ship would pick them up--hopefull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3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When the 49ers got to the Pacific side, they waited and waited for weeks, or even months. When a ship finally did arrive, passage might cost $500 or $1000, and sometimes there was no space at any pric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3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Even worse, many of the Pacific-side ships were unseaworthy and sank en route. In the end, many regretted not taking the overland rout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61e"/>
                </a:solidFill>
                <a:latin typeface="Garamond"/>
              </a:rPr>
              <a:t>The Stinky Trail west</a:t>
            </a:r>
            <a:endParaRPr b="0" lang="en-US" sz="3200" spc="-1" strike="noStrike">
              <a:solidFill>
                <a:srgbClr val="4f261e"/>
              </a:solidFill>
              <a:latin typeface="Garamond"/>
            </a:endParaRPr>
          </a:p>
        </p:txBody>
      </p:sp>
      <p:pic>
        <p:nvPicPr>
          <p:cNvPr id="135" name="" descr=""/>
          <p:cNvPicPr/>
          <p:nvPr/>
        </p:nvPicPr>
        <p:blipFill>
          <a:blip r:embed="rId1"/>
          <a:stretch/>
        </p:blipFill>
        <p:spPr>
          <a:xfrm>
            <a:off x="1676520" y="228600"/>
            <a:ext cx="1084320" cy="158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37"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magine the sunburn you'd get from being outside from sunup to sundown every day for six months. No sunblock. No lotion. That was reality for the California-bound 49ers--most wound up with leathery, sunbaked skin. But that was just the beginning.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3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magine sweating profusely in 90 degree heat day after day--but never taking a bath or shower. That too was typical of life on the trail.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4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nd remember, this was before the days of t-shirts and shorts. Women wore long dresses for the most part, and men wore long pants. And there wasn't even much changing of clothes. They wore the same clothes day after da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Weird ways west</a:t>
            </a:r>
            <a:endParaRPr b="0" lang="en-US" sz="4400" spc="-1" strike="noStrike">
              <a:solidFill>
                <a:srgbClr val="4f261e"/>
              </a:solidFill>
              <a:latin typeface="Garamond"/>
            </a:endParaRPr>
          </a:p>
        </p:txBody>
      </p:sp>
      <p:sp>
        <p:nvSpPr>
          <p:cNvPr id="8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 California-bound airline in 1849!? Don't laugh; it almost happened. Rufus Porter, founder of Scientific American, planned to fly 49ers west on propeller-driven balloons powered by steam engines. He went to far as to advertise the expedition, and 200 brave souls signed up for the trip. But the "airline" never got off the ground.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4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Could it get any worse? Yes. They often had no choice but to drink rancid water, which had the inevitable result: diarrhea. For many, it was a chronic condition.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45"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ll these factors combined to create some rather deplorable hygienic conditions. Even the native tribes were repulsed by the smell. The Native Americans, who bathed regularly, thought the emigrants were uncivilized because of their poor hygien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e Confused Mapmaker</a:t>
            </a:r>
            <a:endParaRPr b="0" lang="en-US" sz="3200" spc="-1" strike="noStrike">
              <a:solidFill>
                <a:srgbClr val="4f261e"/>
              </a:solidFill>
              <a:latin typeface="Garamond"/>
            </a:endParaRPr>
          </a:p>
        </p:txBody>
      </p:sp>
      <p:pic>
        <p:nvPicPr>
          <p:cNvPr id="147" name="" descr=""/>
          <p:cNvPicPr/>
          <p:nvPr/>
        </p:nvPicPr>
        <p:blipFill>
          <a:blip r:embed="rId1"/>
          <a:stretch/>
        </p:blipFill>
        <p:spPr>
          <a:xfrm>
            <a:off x="1752480" y="228600"/>
            <a:ext cx="2895840" cy="1785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The Confused Mapmaker</a:t>
            </a:r>
            <a:endParaRPr b="0" lang="en-US" sz="4400" spc="-1" strike="noStrike">
              <a:solidFill>
                <a:srgbClr val="4f261e"/>
              </a:solidFill>
              <a:latin typeface="Garamond"/>
            </a:endParaRPr>
          </a:p>
        </p:txBody>
      </p:sp>
      <p:sp>
        <p:nvSpPr>
          <p:cNvPr id="149" name="PlaceHolder 2"/>
          <p:cNvSpPr>
            <a:spLocks noGrp="1"/>
          </p:cNvSpPr>
          <p:nvPr>
            <p:ph/>
          </p:nvPr>
        </p:nvSpPr>
        <p:spPr>
          <a:xfrm>
            <a:off x="1447920" y="1600200"/>
            <a:ext cx="7238880" cy="327672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re are actually two states in the Union named Oregon. One we all know; the other borders the west side of Lake Michigan.</a:t>
            </a:r>
            <a:endParaRPr b="0" lang="en-US" sz="3200" spc="-1" strike="noStrike">
              <a:solidFill>
                <a:srgbClr val="4f261e"/>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endParaRPr b="0" lang="en-US" sz="3200" spc="-1" strike="noStrike">
              <a:solidFill>
                <a:srgbClr val="4f261e"/>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Confused? The second state is Wisconsin.</a:t>
            </a:r>
            <a:endParaRPr b="0" lang="en-US" sz="3200" spc="-1" strike="noStrike">
              <a:solidFill>
                <a:srgbClr val="4f261e"/>
              </a:solidFill>
              <a:latin typeface="Garamond"/>
            </a:endParaRPr>
          </a:p>
        </p:txBody>
      </p:sp>
      <p:pic>
        <p:nvPicPr>
          <p:cNvPr id="150" name="" descr=""/>
          <p:cNvPicPr/>
          <p:nvPr/>
        </p:nvPicPr>
        <p:blipFill>
          <a:blip r:embed="rId1"/>
          <a:stretch/>
        </p:blipFill>
        <p:spPr>
          <a:xfrm>
            <a:off x="7238880" y="5029200"/>
            <a:ext cx="1724040" cy="1695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The Confused Mapmaker</a:t>
            </a:r>
            <a:endParaRPr b="0" lang="en-US" sz="4400" spc="-1" strike="noStrike">
              <a:solidFill>
                <a:srgbClr val="4f261e"/>
              </a:solidFill>
              <a:latin typeface="Garamond"/>
            </a:endParaRPr>
          </a:p>
        </p:txBody>
      </p:sp>
      <p:sp>
        <p:nvSpPr>
          <p:cNvPr id="15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Some historians believe that both Oregon and Wisconsin are named after the Ouisconsink River, (now known as the Wisconsin River) which bisects the dairy state and empties into the Mississippi. It's not hard to see how the name Wisconsin was derived from Ouisconsink, but Oregon seems a bit of a stretc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The Confused Mapmaker</a:t>
            </a:r>
            <a:endParaRPr b="0" lang="en-US" sz="4400" spc="-1" strike="noStrike">
              <a:solidFill>
                <a:srgbClr val="4f261e"/>
              </a:solidFill>
              <a:latin typeface="Garamond"/>
            </a:endParaRPr>
          </a:p>
        </p:txBody>
      </p:sp>
      <p:sp>
        <p:nvSpPr>
          <p:cNvPr id="15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Here's how it is believed to have happened. Long ago, a mapmaker misspelled Ouisconsink as Ouracon--sint. From there it's not too hard to see how the name Oregon was derived.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The Confused Mapmaker</a:t>
            </a:r>
            <a:endParaRPr b="0" lang="en-US" sz="4400" spc="-1" strike="noStrike">
              <a:solidFill>
                <a:srgbClr val="4f261e"/>
              </a:solidFill>
              <a:latin typeface="Garamond"/>
            </a:endParaRPr>
          </a:p>
        </p:txBody>
      </p:sp>
      <p:sp>
        <p:nvSpPr>
          <p:cNvPr id="156" name="PlaceHolder 2"/>
          <p:cNvSpPr>
            <a:spLocks noGrp="1"/>
          </p:cNvSpPr>
          <p:nvPr>
            <p:ph/>
          </p:nvPr>
        </p:nvSpPr>
        <p:spPr>
          <a:xfrm>
            <a:off x="1447920" y="1599840"/>
            <a:ext cx="7238880" cy="487692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Of course, today the place we call Oregon is over a thousand miles from the Wisconsin River, but that wasn't clear to cartographers and explorers in the 1700s. At least one theorized that the Ouisconsink River flowed from the Great Lakes all the way to the Pacific Northwest.</a:t>
            </a:r>
            <a:endParaRPr b="0" lang="en-US" sz="3200" spc="-1" strike="noStrike">
              <a:solidFill>
                <a:srgbClr val="4f261e"/>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He was wrong, but the name stuck.</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Buried Alive!</a:t>
            </a:r>
            <a:endParaRPr b="0" lang="en-US" sz="3200" spc="-1" strike="noStrike">
              <a:solidFill>
                <a:srgbClr val="4f261e"/>
              </a:solidFill>
              <a:latin typeface="Garamond"/>
            </a:endParaRPr>
          </a:p>
        </p:txBody>
      </p:sp>
      <p:pic>
        <p:nvPicPr>
          <p:cNvPr id="158" name="" descr=""/>
          <p:cNvPicPr/>
          <p:nvPr/>
        </p:nvPicPr>
        <p:blipFill>
          <a:blip r:embed="rId1"/>
          <a:stretch/>
        </p:blipFill>
        <p:spPr>
          <a:xfrm>
            <a:off x="1600200" y="228600"/>
            <a:ext cx="3195720" cy="1379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0"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t least some of the emigrants who died en route to Oregon were probably buried alive. Why? The survivors were in a hurr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For many years, cholera ravaged emigrants along the Oregon Trail. Whoever caught it was dead--no cure or treatment existed. Usually, the infected emigrant died in 24 hours or less.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Weird ways west</a:t>
            </a:r>
            <a:endParaRPr b="0" lang="en-US" sz="4400" spc="-1" strike="noStrike">
              <a:solidFill>
                <a:srgbClr val="4f261e"/>
              </a:solidFill>
              <a:latin typeface="Garamond"/>
            </a:endParaRPr>
          </a:p>
        </p:txBody>
      </p:sp>
      <p:sp>
        <p:nvSpPr>
          <p:cNvPr id="9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n there was the "wind wagon," sort of a cross between a sailboat and a wagon. It seemed like a good idea on paper; after all, it can be very windy in the West. A prototype was built and for a brief moment it barreled across the plains at the advertised 15 miles-per-hour. Then it went out of control and crashed. The inventor--Wind-wagon Thomas--kept trying for years, but never succeeded.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f an entire wagon train stopped for an elaborate funeral, it would slow their progress. The Donner Party tragedy emphasized the urgency of traveling quickly. Too many delays meant the pioneers might not get to Oregon before winter--and then everyone might peris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6"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    </a:t>
            </a:r>
            <a:r>
              <a:rPr b="0" lang="en-US" sz="2800" spc="-1" strike="noStrike">
                <a:solidFill>
                  <a:srgbClr val="4f261e"/>
                </a:solidFill>
                <a:latin typeface="Garamond"/>
              </a:rPr>
              <a:t>So on most wagon trains, the burials got shorter and shorter as more and more people died. Some even abandoned the terminally sick by the side of the Trail, where they would eventually die alone. The more humane wagon companies elected a "watcher" to wait with the dying person while the wagons forged ahead. It wouldn't take long for the watcher to catch up; a quick death, after all, was imminent. </a:t>
            </a:r>
            <a:endParaRPr b="0" lang="en-US" sz="28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8"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Many watchers were in such a hurry that they started digging the grave long before their infected companion was dead. Needless to say, watching your own grave being dug was probably quite disturbing. And if you lingered too long? No one is sure, but evidence strongly suggests that some were accidentally buried before they took their final breat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Ezra Meeker: Hero or Nut?</a:t>
            </a:r>
            <a:endParaRPr b="0" lang="en-US" sz="3200" spc="-1" strike="noStrike">
              <a:solidFill>
                <a:srgbClr val="4f261e"/>
              </a:solidFill>
              <a:latin typeface="Garamond"/>
            </a:endParaRPr>
          </a:p>
        </p:txBody>
      </p:sp>
      <p:pic>
        <p:nvPicPr>
          <p:cNvPr id="170" name="" descr=""/>
          <p:cNvPicPr/>
          <p:nvPr/>
        </p:nvPicPr>
        <p:blipFill>
          <a:blip r:embed="rId1"/>
          <a:stretch/>
        </p:blipFill>
        <p:spPr>
          <a:xfrm>
            <a:off x="1905120" y="152280"/>
            <a:ext cx="1438200" cy="2810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Ezra Meeker: Hero or Nut?</a:t>
            </a:r>
            <a:endParaRPr b="0" lang="en-US" sz="4400" spc="-1" strike="noStrike">
              <a:solidFill>
                <a:srgbClr val="4f261e"/>
              </a:solidFill>
              <a:latin typeface="Garamond"/>
            </a:endParaRPr>
          </a:p>
        </p:txBody>
      </p:sp>
      <p:sp>
        <p:nvSpPr>
          <p:cNvPr id="17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re was nothing particularly out of the ordinary about Ezra Meeker's wagon trip to Oregon in 1852. What was unusual was Meeker's decision to make a return trip--over 50 years later.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Ezra Meeker: Hero or Nut?</a:t>
            </a:r>
            <a:endParaRPr b="0" lang="en-US" sz="4400" spc="-1" strike="noStrike">
              <a:solidFill>
                <a:srgbClr val="4f261e"/>
              </a:solidFill>
              <a:latin typeface="Garamond"/>
            </a:endParaRPr>
          </a:p>
        </p:txBody>
      </p:sp>
      <p:sp>
        <p:nvSpPr>
          <p:cNvPr id="17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t 76 years of age, Meeker loaded up his wagon, picked two good oxen, and headed east. If Horace Greeley had been alive, he might have coined a new phrase: "Go east, old man."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Ezra Meeker: Hero or Nut?</a:t>
            </a:r>
            <a:endParaRPr b="0" lang="en-US" sz="4400" spc="-1" strike="noStrike">
              <a:solidFill>
                <a:srgbClr val="4f261e"/>
              </a:solidFill>
              <a:latin typeface="Garamond"/>
            </a:endParaRPr>
          </a:p>
        </p:txBody>
      </p:sp>
      <p:sp>
        <p:nvSpPr>
          <p:cNvPr id="176"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Meeker's friends were against the idea; they thought he would never make it alive. Although his ox died, the difficult trip didn't kill Meeker. Along the way, he gave speeches encouraging preservation of the Trail, and many turned out to listen. He wrote a book, convinced President Teddy Roosevelt to set aside money for trail preservation, and became a national celebrit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Ezra Meeker: Hero or Nut?</a:t>
            </a:r>
            <a:endParaRPr b="0" lang="en-US" sz="4400" spc="-1" strike="noStrike">
              <a:solidFill>
                <a:srgbClr val="4f261e"/>
              </a:solidFill>
              <a:latin typeface="Garamond"/>
            </a:endParaRPr>
          </a:p>
        </p:txBody>
      </p:sp>
      <p:sp>
        <p:nvSpPr>
          <p:cNvPr id="178"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whole expedition was so successful, Meeker did it again a few years later in 1910. He was more than 80 then, but still as energetic as ever. In later years, Meeker switched to newer forms of transportation, making the journey to Oregon by car, train and even plane. Meeker was still busy promoting the Oregon Trail when he died at age 98.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un with Buffalo Dung</a:t>
            </a:r>
            <a:endParaRPr b="0" lang="en-US" sz="3200" spc="-1" strike="noStrike">
              <a:solidFill>
                <a:srgbClr val="4f261e"/>
              </a:solidFill>
              <a:latin typeface="Garamond"/>
            </a:endParaRPr>
          </a:p>
        </p:txBody>
      </p:sp>
      <p:pic>
        <p:nvPicPr>
          <p:cNvPr id="180" name="" descr=""/>
          <p:cNvPicPr/>
          <p:nvPr/>
        </p:nvPicPr>
        <p:blipFill>
          <a:blip r:embed="rId1"/>
          <a:stretch/>
        </p:blipFill>
        <p:spPr>
          <a:xfrm>
            <a:off x="1981080" y="304920"/>
            <a:ext cx="1886040" cy="1704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Fun with Buffalo Dung</a:t>
            </a:r>
            <a:endParaRPr b="0" lang="en-US" sz="4400" spc="-1" strike="noStrike">
              <a:solidFill>
                <a:srgbClr val="4f261e"/>
              </a:solidFill>
              <a:latin typeface="Garamond"/>
            </a:endParaRPr>
          </a:p>
        </p:txBody>
      </p:sp>
      <p:sp>
        <p:nvSpPr>
          <p:cNvPr id="18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f you think frisbees were invented in the 1960s, you're wrong--by about a hundred years. Children on the Oregon Trail threw frisbee-like devices back in the mid-1800s. But they weren't made of plastic--they were made of buffalo dung.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Weird ways west</a:t>
            </a:r>
            <a:endParaRPr b="0" lang="en-US" sz="4400" spc="-1" strike="noStrike">
              <a:solidFill>
                <a:srgbClr val="4f261e"/>
              </a:solidFill>
              <a:latin typeface="Garamond"/>
            </a:endParaRPr>
          </a:p>
        </p:txBody>
      </p:sp>
      <p:sp>
        <p:nvSpPr>
          <p:cNvPr id="9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Others took a more low-tech approach, making the trip with only a simple wheelbarrow. It's hard to imagine pushing a fully-loaded wheelbarrow for 2,000 miles, but several dozen attempted the trip. For a time, they could outpace everything on the Trail, but human endurance has its limits. No one is quite sure if any of them made it all the way with their wheelbarrows.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Fun with Buffalo Dung</a:t>
            </a:r>
            <a:endParaRPr b="0" lang="en-US" sz="4400" spc="-1" strike="noStrike">
              <a:solidFill>
                <a:srgbClr val="4f261e"/>
              </a:solidFill>
              <a:latin typeface="Garamond"/>
            </a:endParaRPr>
          </a:p>
        </p:txBody>
      </p:sp>
      <p:sp>
        <p:nvSpPr>
          <p:cNvPr id="18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During the great western migration, the entire Great Plains region was covered with buffalo chips--they were unavoidable. And yes, kids occasionally tossed them about in a frisbee-like manner. But the chips had a much more practical purpose for the emigrants--they were burned for fuel.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Fun with Buffalo Dung</a:t>
            </a:r>
            <a:endParaRPr b="0" lang="en-US" sz="4400" spc="-1" strike="noStrike">
              <a:solidFill>
                <a:srgbClr val="4f261e"/>
              </a:solidFill>
              <a:latin typeface="Garamond"/>
            </a:endParaRPr>
          </a:p>
        </p:txBody>
      </p:sp>
      <p:sp>
        <p:nvSpPr>
          <p:cNvPr id="186"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re was no firewood along much of the Trail, so the only alternative was dried buffalo dung. Even though the pioneers were hardy, they didn't much enjoy gathering up bushels of chips every night.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Fun with Buffalo Dung</a:t>
            </a:r>
            <a:endParaRPr b="0" lang="en-US" sz="4400" spc="-1" strike="noStrike">
              <a:solidFill>
                <a:srgbClr val="4f261e"/>
              </a:solidFill>
              <a:latin typeface="Garamond"/>
            </a:endParaRPr>
          </a:p>
        </p:txBody>
      </p:sp>
      <p:sp>
        <p:nvSpPr>
          <p:cNvPr id="188"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chips burned surprisingly well, and produced an odor-free flame. Usually, each family had its own campfire, but sometimes everyone contributed their chips for one big bonfir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Million-Dollar Wagon</a:t>
            </a:r>
            <a:endParaRPr b="0" lang="en-US" sz="3200" spc="-1" strike="noStrike">
              <a:solidFill>
                <a:srgbClr val="4f261e"/>
              </a:solidFill>
              <a:latin typeface="Garamond"/>
            </a:endParaRPr>
          </a:p>
        </p:txBody>
      </p:sp>
      <p:pic>
        <p:nvPicPr>
          <p:cNvPr id="190" name="" descr=""/>
          <p:cNvPicPr/>
          <p:nvPr/>
        </p:nvPicPr>
        <p:blipFill>
          <a:blip r:embed="rId1"/>
          <a:stretch/>
        </p:blipFill>
        <p:spPr>
          <a:xfrm>
            <a:off x="1523880" y="152280"/>
            <a:ext cx="3905280" cy="1095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illion-Dollar Wagon</a:t>
            </a:r>
            <a:endParaRPr b="0" lang="en-US" sz="4400" spc="-1" strike="noStrike">
              <a:solidFill>
                <a:srgbClr val="4f261e"/>
              </a:solidFill>
              <a:latin typeface="Garamond"/>
            </a:endParaRPr>
          </a:p>
        </p:txBody>
      </p:sp>
      <p:sp>
        <p:nvSpPr>
          <p:cNvPr id="19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t's likely that only one emigrant wagon ever carried a million dollars worth of goods, but this wagon wasn't filled with gold or silver--instead, it carried fruit trees.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illion-Dollar Wagon</a:t>
            </a:r>
            <a:endParaRPr b="0" lang="en-US" sz="4400" spc="-1" strike="noStrike">
              <a:solidFill>
                <a:srgbClr val="4f261e"/>
              </a:solidFill>
              <a:latin typeface="Garamond"/>
            </a:endParaRPr>
          </a:p>
        </p:txBody>
      </p:sp>
      <p:sp>
        <p:nvSpPr>
          <p:cNvPr id="19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Henderson Luelling took his family to Oregon from Iowa in 1846. He brought two extra wagons filled with apple, cherry, pear, plum and black walnut trees. It was an odd sight, the covered wagon filled with dirt and with trees sticking out. Throughout the trip, Luelling pampered his prized cargo. His daughter, Eliza, wondered if he cared more about the trees than about her.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illion-Dollar Wagon</a:t>
            </a:r>
            <a:endParaRPr b="0" lang="en-US" sz="4400" spc="-1" strike="noStrike">
              <a:solidFill>
                <a:srgbClr val="4f261e"/>
              </a:solidFill>
              <a:latin typeface="Garamond"/>
            </a:endParaRPr>
          </a:p>
        </p:txBody>
      </p:sp>
      <p:sp>
        <p:nvSpPr>
          <p:cNvPr id="196"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Luelling's plants thrived in fruit-bare Oregon, and his orchards were an immense success. Trailblazer William Barlow once estimated the resulting value of Luelling's trees at well over $1 million.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illion-Dollar Wagon</a:t>
            </a:r>
            <a:endParaRPr b="0" lang="en-US" sz="4400" spc="-1" strike="noStrike">
              <a:solidFill>
                <a:srgbClr val="4f261e"/>
              </a:solidFill>
              <a:latin typeface="Garamond"/>
            </a:endParaRPr>
          </a:p>
        </p:txBody>
      </p:sp>
      <p:sp>
        <p:nvSpPr>
          <p:cNvPr id="198" name="PlaceHolder 2"/>
          <p:cNvSpPr>
            <a:spLocks noGrp="1"/>
          </p:cNvSpPr>
          <p:nvPr>
            <p:ph/>
          </p:nvPr>
        </p:nvSpPr>
        <p:spPr>
          <a:xfrm>
            <a:off x="1447920" y="1599840"/>
            <a:ext cx="7238880" cy="487692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success of Luelling's trees inspired Illinois dentist James R. Cardell to pack up his own "fruit wagon." Hoping for great profits, Cardell began the great journey west in 1852. After 1,500 miles of tough travel, Cardell's wagon slid on a bank of the Snake River and overturned.</a:t>
            </a:r>
            <a:endParaRPr b="0" lang="en-US" sz="3200" spc="-1" strike="noStrike">
              <a:solidFill>
                <a:srgbClr val="4f261e"/>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Cardell's fortune floated away.</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e End</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Weird ways west</a:t>
            </a:r>
            <a:endParaRPr b="0" lang="en-US" sz="4400" spc="-1" strike="noStrike">
              <a:solidFill>
                <a:srgbClr val="4f261e"/>
              </a:solidFill>
              <a:latin typeface="Garamond"/>
            </a:endParaRPr>
          </a:p>
        </p:txBody>
      </p:sp>
      <p:sp>
        <p:nvSpPr>
          <p:cNvPr id="95" name="PlaceHolder 2"/>
          <p:cNvSpPr>
            <a:spLocks noGrp="1"/>
          </p:cNvSpPr>
          <p:nvPr>
            <p:ph/>
          </p:nvPr>
        </p:nvSpPr>
        <p:spPr>
          <a:xfrm>
            <a:off x="1447920" y="1600200"/>
            <a:ext cx="7238880" cy="1752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Why all the weird contraptions? Everyone was in a big hurry to get west--to strike it ric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20570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r>
              <a:rPr b="0" lang="en-US" sz="4400" spc="-1" strike="noStrike">
                <a:solidFill>
                  <a:srgbClr val="4f261e"/>
                </a:solidFill>
                <a:latin typeface="Garamond"/>
              </a:rPr>
              <a:t> </a:t>
            </a:r>
            <a:endParaRPr b="0" lang="en-US" sz="4400" spc="-1" strike="noStrike">
              <a:solidFill>
                <a:srgbClr val="4f261e"/>
              </a:solidFill>
              <a:latin typeface="Garamond"/>
            </a:endParaRPr>
          </a:p>
        </p:txBody>
      </p:sp>
      <p:pic>
        <p:nvPicPr>
          <p:cNvPr id="97" name="" descr=""/>
          <p:cNvPicPr/>
          <p:nvPr/>
        </p:nvPicPr>
        <p:blipFill>
          <a:blip r:embed="rId1"/>
          <a:stretch/>
        </p:blipFill>
        <p:spPr>
          <a:xfrm>
            <a:off x="1676520" y="228600"/>
            <a:ext cx="1071360" cy="17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9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Would you spend $100 for a glass of water? Some 49ers on the California Trail did.</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Because of poor planning, many western-bound 49ers were unprepared for the hot, dry deserts of Nevada. A few sharp businessmen in California knew this and took advantage of the situation. They traveled eastward with barrels of water. Extremely thirsty, many 49ers paid $1, $5, even $100 for a glass of precious water.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03:52:30Z</dcterms:created>
  <dc:creator>jessica bouse</dc:creator>
  <dc:description/>
  <cp:keywords/>
  <dc:language>en-US</dc:language>
  <cp:lastModifiedBy>CCSD</cp:lastModifiedBy>
  <dcterms:modified xsi:type="dcterms:W3CDTF">2006-12-13T14:58:20Z</dcterms:modified>
  <cp:revision>12</cp:revision>
  <dc:subject/>
  <dc:title>Gold Ru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81033</vt:lpwstr>
  </property>
</Properties>
</file>